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0680-F07F-4B44-8E22-42BCD8ED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6BA3-9CBF-4AAD-AE65-3E507D69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3908-7DF7-4231-A939-51C1680C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012-80D7-481B-A95F-E0B3619B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EA5-80AA-426B-A2BF-42CFA33A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AA9-F07A-4C15-97E9-16CFD126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3094-DEC5-4BF6-A291-595D5B87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C98-C2C2-43A3-B11B-1017C71B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3CD5-34B3-4E9B-A57D-979F96C3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A81A-C59B-4BF5-B876-3B69F29C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9BA8-CFE4-4DF6-B01A-4EEC22E1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72E6-F415-40D0-B6E8-6BC57256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9098-50DE-41F8-9937-FA5776DAF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bikeraceinfo.com/annual/images07/lombardy.jpg&amp;imgrefurl=http://www.bikeraceinfo.com/annual/race2007.html&amp;usg=__yZSHpxe7i83feEeiocZSHelEuvs=&amp;h=530&amp;w=800&amp;sz=70&amp;hl=en&amp;start=20&amp;tbnid=kPo54zRZmxAHUM:&amp;tbnh=95&amp;tbnw=143&amp;prev=/images%3Fq%3DItaly%2Bbike%2Bracing%26hl%3Den%26safe%3Dactive%26rlz%3D1T4IBMA_enUS310US310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ages.google.com/imgres?imgurl=http://www.greetings.ca/Mona%2520Lisa.jpg&amp;imgrefurl=http://www.englishbaby.com/blog/narges&amp;usg=__Vjc2Nw9W-6yssGFsNg277cJmnM8=&amp;h=1143&amp;w=800&amp;sz=217&amp;hl=en&amp;start=1&amp;tbnid=V3bPjgNSYjL4mM:&amp;tbnh=150&amp;tbnw=105&amp;prev=/images%3Fq%3DMona%2BLisa%26hl%3Den%26safe%3Dactive%26rlz%3D1T4IBMA_enUS310US310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images.google.com/imgres?imgurl=http://www.science-facts.com/leonardo-davinci.jpg&amp;imgrefurl=http://www.science-facts.com/2008/06/14/the-universal-man-da-vinci/&amp;usg=__JHmFHHhG9bDjQR5moiU3UFs3evE=&amp;h=437&amp;w=300&amp;sz=152&amp;hl=en&amp;start=15&amp;tbnid=Ri_kQWve35EXIM:&amp;tbnh=126&amp;tbnw=86&amp;prev=/images%3Fq%3DLeonardo%2Bda%2BVinci%26hl%3Den%26safe%3Dactive%26rlz%3D1T4IBMA_enUS310US310%26sa%3DX" TargetMode="External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858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By: A.C. and Nand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oper Black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 Grade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Randolp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152280"/>
            <a:ext cx="6324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080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Goudy Stout"/>
              </a:rPr>
              <a:t>Ita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08000"/>
                  </a:gs>
                  <a:gs pos="100000">
                    <a:srgbClr val="ff3300"/>
                  </a:gs>
                </a:gsLst>
                <a:lin ang="5400000"/>
              </a:gradFill>
              <a:latin typeface="Goudy Stout"/>
              <a:ea typeface="Goudy Stou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971800" cy="283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oudy Stout"/>
              </a:rPr>
              <a:t>Culture in Ita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There are many popular and different foods in Italy. They mainly eat pizza and pastas like spaghetti, lasagna, and macaro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The most popular sport in Italy is soccer! Other major sports are bicycle and motor races, fishing, horse riding, hunting, tennis, and ski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In Italy there are many unique art pieces. Leonardo da Vinci, who painted the world famous Mona Lisa, came from Italy.</a:t>
            </a:r>
            <a:r>
              <a:rPr b="0" lang="en-US" sz="1400" spc="-1" strike="noStrike">
                <a:solidFill>
                  <a:srgbClr val="000000"/>
                </a:solidFill>
                <a:latin typeface="Goudy Stout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162920" y="152388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43400" y="1523880"/>
            <a:ext cx="281952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343400" y="29718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77120" y="3048120"/>
            <a:ext cx="2666880" cy="1981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8320" y="4952880"/>
            <a:ext cx="1828800" cy="190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477120" y="4971960"/>
            <a:ext cx="22096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Fast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Language-Ital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urrency- Italy’s currency  is Euro as of 2002. Before that it was li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apital-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Religion-Mostly Roman Catho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Population-Over 57 mill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Government-Democra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limate-Mediterrane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868200">
            <a:off x="533160" y="380520"/>
            <a:ext cx="121896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77120" y="4248000"/>
            <a:ext cx="2666880" cy="117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95880" y="5318280"/>
            <a:ext cx="3048120" cy="153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409200">
            <a:off x="7467120" y="228600"/>
            <a:ext cx="1143000" cy="10666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oudy Stout"/>
              </a:rPr>
              <a:t>Physical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lps-mountain range at the north part of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pennines-mountain range that runs down the center of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Po River-longest river in Italy(405 m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Lake Garda-largest lake in Italy(143 m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Mt. Blanc-tallest mountain in Italy(15,521 fee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52280"/>
            <a:ext cx="1371600" cy="1143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86600" y="457200"/>
            <a:ext cx="1905120" cy="762120"/>
          </a:xfrm>
          <a:prstGeom prst="flowChartPunchedTape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68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68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6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6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Rome is the capital of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Rome is filled with famous landmarks. For example, the colisse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e Forum was very famous. It was a market and a meeting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e trevi fountain is also very famous in R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Mi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Milan is the city of extreme lifestyle and fash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Milan is a very relaxing yet can be exciting and w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ere is an Italian Football (soccer) club in Milan called A.C. Milan. A.C. stands for Associazione Calc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1654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242120" y="4876920"/>
            <a:ext cx="1901880" cy="198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Ve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Venice is mostly underwater. It is home of the Gondol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People in Venice either travel by Gondolas or by fo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2819520" cy="3124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124080" y="3733920"/>
            <a:ext cx="190512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181480" y="373392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Many people have heard this name, but not as a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is is home to the Leaning Tower of Pi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Who knew </a:t>
            </a:r>
            <a:r>
              <a:rPr b="0" i="1" lang="en-US" sz="3200" spc="-1" strike="noStrike">
                <a:solidFill>
                  <a:srgbClr val="000000"/>
                </a:solidFill>
                <a:latin typeface="Cooper Black"/>
              </a:rPr>
              <a:t>Pisa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 was a c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1689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1736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705720" y="3886200"/>
            <a:ext cx="2438280" cy="2971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0" y="4191120"/>
            <a:ext cx="2000160" cy="2666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047760" y="0"/>
            <a:ext cx="2971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ebsi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orre.duomo.pisa.it/index_eng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acmilan.com/InfoPage.aspx?id=37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orre.duomo.pisa.it/index_eng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aviewoncities.com/rome/trevi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aviewoncities.com/rome/colosseo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uide To Ital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an Williams, pg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ristin Thoennes, pgs 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ide 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an James, pgs 17,19,and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 rot="5400000">
            <a:off x="-1866960" y="2552760"/>
            <a:ext cx="6477120" cy="1676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Goudy Stout"/>
              </a:rPr>
              <a:t>Biography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Goudy Stout"/>
              <a:ea typeface="Goudy Stout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4838400" y="2324160"/>
            <a:ext cx="5943600" cy="1752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Goudy Stout"/>
              </a:rPr>
              <a:t>Sources</a:t>
            </a:r>
            <a:endParaRPr b="0" lang="en-US" sz="1800" spc="1" strike="noStrike">
              <a:ln w="34920">
                <a:solidFill>
                  <a:srgbClr val="008000"/>
                </a:solidFill>
                <a:miter/>
              </a:ln>
              <a:solidFill>
                <a:srgbClr val="ffff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Goudy Stout"/>
              <a:ea typeface="Goudy Stout"/>
            </a:endParaRPr>
          </a:p>
        </p:txBody>
      </p:sp>
    </p:spTree>
  </p:cSld>
  <p:transition>
    <p:wheel spokes="1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7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0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4:36:13Z</dcterms:created>
  <dc:creator>annbrown</dc:creator>
  <dc:description/>
  <dc:language>en-US</dc:language>
  <cp:lastModifiedBy>Amit Chakrabarty</cp:lastModifiedBy>
  <dcterms:modified xsi:type="dcterms:W3CDTF">2009-02-13T02:55:07Z</dcterms:modified>
  <cp:revision>10</cp:revision>
  <dc:subject/>
  <dc:title>Italy</dc:title>
</cp:coreProperties>
</file>